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8F4-5E6D-4A0F-A576-2433EC31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3F7-9145-4E8A-86D8-3B4C21E3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340B-12E3-40F4-BE19-D11C0D9A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CD8E-DB80-4FBB-9A50-A4D9C951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85DF-3D85-4929-9565-AB29ED32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CC25-D686-44FC-A95D-131E46AA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DF7F-AEB1-4E90-A45C-E2308330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123F-EA00-4BDE-B800-44D61A5F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7566-35A5-4C0E-8D1C-2E6525D4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8BBE-4A4F-4575-BE1E-775546DB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588A-EC71-4C36-8AA0-172DBDDE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21F-1988-46E4-99D7-73B21029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17EB-562B-43C7-872C-721C82ED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4BFB-8D74-4330-9059-E3A2D178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D330-40D7-462C-BC29-D519809B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DAF0-13E5-4576-96F0-DD6F44F3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EF2D-4930-48DA-82BA-ACBE08C4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63D3-0A45-4EB0-912B-C7933611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CA0-ED79-46E4-B5BD-1929CE1B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82E-9D8C-4D95-95CA-20BA085F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ECA-8B58-49B1-A15E-FC54F82F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02B8-4893-4B70-9A57-5E56E46C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575-E669-46A3-8A31-BD8DE805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4BBA-171C-41D5-BF0E-5C5BDD3F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FC25-FD39-4421-A10A-056EDF2A3D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59A1-2B39-4762-9C52-2966A93AA7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im – What is the legacy of Alexander the Great?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29 – Alexander the Gre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2445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N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the traits a good leader should hav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133360" y="152280"/>
            <a:ext cx="70102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ander the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rly Childh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of Greek Macedonian King Philip II– determined to prove himself to his father (may have had his father assassinated!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er of a Huge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quered Persian Empire to the east of Greece as well as parts of Asia and Africa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nted to conquer the whol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enemies that surrendered without a fight were treated with mercy and kindness; those that resisted and fought were brutally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alxhed1"/>
          <p:cNvPicPr/>
          <p:nvPr/>
        </p:nvPicPr>
        <p:blipFill>
          <a:blip r:embed="rId1"/>
          <a:stretch/>
        </p:blipFill>
        <p:spPr>
          <a:xfrm>
            <a:off x="0" y="3200400"/>
            <a:ext cx="22399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4496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elleniz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pread Greek culture and learning to conquered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 diffusion-spread Asian/African ideas into Greek socie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accepting of other cultures ideas and blended them into Greek culture as he conquered new areas– This was a huge deal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age 33, died of alcoholism? Malaria? Syphilis? Broken heart after his army refused to fight any m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5" descr="alexander-the-great-mosaic-alexandros-giannios"/>
          <p:cNvPicPr/>
          <p:nvPr/>
        </p:nvPicPr>
        <p:blipFill>
          <a:blip r:embed="rId1"/>
          <a:stretch/>
        </p:blipFill>
        <p:spPr>
          <a:xfrm>
            <a:off x="5049720" y="1719360"/>
            <a:ext cx="323388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lexander’s Empi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ClipArt Placeholder 4" descr=""/>
          <p:cNvPicPr/>
          <p:nvPr/>
        </p:nvPicPr>
        <p:blipFill>
          <a:blip r:embed="rId1"/>
          <a:srcRect l="0" t="-19985" r="0" b="-19985"/>
          <a:stretch/>
        </p:blipFill>
        <p:spPr>
          <a:xfrm>
            <a:off x="609480" y="914400"/>
            <a:ext cx="776304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9:10:40Z</dcterms:created>
  <dc:creator>NYCDOE</dc:creator>
  <dc:description/>
  <dc:language>en-US</dc:language>
  <cp:lastModifiedBy>NYCDOE</cp:lastModifiedBy>
  <dcterms:modified xsi:type="dcterms:W3CDTF">2012-11-06T12:03:21Z</dcterms:modified>
  <cp:revision>7</cp:revision>
  <dc:subject/>
  <dc:title>Aim – what is the legacy of Alexander the Great? </dc:title>
</cp:coreProperties>
</file>